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C12B4-F249-40B2-9CAC-A3D0D37BFE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3A81B-B9D2-4E74-9F02-88C0F348EC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6B30F-FA03-4A19-9C34-99F036F3EF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ECC6-4031-48B4-93CE-74AF401136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9E9EA-55DF-4F3D-AF04-F4FBC9443F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4ECA1-024A-4ED3-967C-018BF6086A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33BD4-7301-4709-8A24-9355A73478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B437-F3CC-4B2B-9D88-6B143EFC17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CF9EA-F28B-4460-B1E7-E50E670319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30DA-11AC-4099-BCF9-F5B2AE12E4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95CF9-75CD-45BF-A2BA-747877F5AD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C085-CC09-434E-81CC-9A031496C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5DD4-D0AE-4ECE-9CED-4B9A025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73A6-18BE-4A7F-94A8-416AC4A6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F4DC-7722-488B-8271-8A0A5D0A3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0318-CCB8-4DA8-A44F-1D9667E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8067-BCB2-4F29-99F3-1BDB3B3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8AD8-557D-4174-80C5-4883B07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B71D-9AEC-44E3-BC90-179A4213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AA60-4119-40EF-AF8C-45831D27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8D45-1C7C-4D23-AFAF-4BA732D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3F14-5F5F-40DF-B1D0-FF29C35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9217-B121-4270-B0AC-213947DB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D0FC02-9A33-4436-B87D-3240C162F7E8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CLASIFICACIÓN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50920" y="5589720"/>
            <a:ext cx="32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1835280" y="3068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LANT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3348000" y="50846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IMNOSPE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6659640" y="508464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GIOSPE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66 Grupo"/>
          <p:cNvGrpSpPr/>
          <p:nvPr/>
        </p:nvGrpSpPr>
        <p:grpSpPr>
          <a:xfrm>
            <a:off x="2771640" y="1700280"/>
            <a:ext cx="3456000" cy="1368360"/>
            <a:chOff x="2771640" y="1700280"/>
            <a:chExt cx="3456000" cy="1368360"/>
          </a:xfrm>
        </p:grpSpPr>
        <p:sp>
          <p:nvSpPr>
            <p:cNvPr id="73" name="Freeform 10"/>
            <p:cNvSpPr/>
            <p:nvPr/>
          </p:nvSpPr>
          <p:spPr>
            <a:xfrm>
              <a:off x="4499640" y="170028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579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36 CuadroTexto"/>
            <p:cNvSpPr/>
            <p:nvPr/>
          </p:nvSpPr>
          <p:spPr>
            <a:xfrm>
              <a:off x="3131640" y="213228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 clasifican 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41 Conector recto"/>
            <p:cNvSpPr/>
            <p:nvPr/>
          </p:nvSpPr>
          <p:spPr>
            <a:xfrm>
              <a:off x="4499640" y="2492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51 Conector recto"/>
            <p:cNvSpPr/>
            <p:nvPr/>
          </p:nvSpPr>
          <p:spPr>
            <a:xfrm flipV="1">
              <a:off x="2771640" y="2780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52 Conector recto"/>
            <p:cNvSpPr/>
            <p:nvPr/>
          </p:nvSpPr>
          <p:spPr>
            <a:xfrm flipV="1">
              <a:off x="6227640" y="2780640"/>
              <a:ext cx="0" cy="28800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54 Conector recto"/>
            <p:cNvSpPr/>
            <p:nvPr/>
          </p:nvSpPr>
          <p:spPr>
            <a:xfrm>
              <a:off x="2771640" y="2780640"/>
              <a:ext cx="3456000" cy="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67 Grupo"/>
          <p:cNvGrpSpPr/>
          <p:nvPr/>
        </p:nvGrpSpPr>
        <p:grpSpPr>
          <a:xfrm>
            <a:off x="4356000" y="3645000"/>
            <a:ext cx="3384720" cy="1438920"/>
            <a:chOff x="4356000" y="3645000"/>
            <a:chExt cx="3384720" cy="1438920"/>
          </a:xfrm>
        </p:grpSpPr>
        <p:sp>
          <p:nvSpPr>
            <p:cNvPr id="80" name="Freeform 10"/>
            <p:cNvSpPr/>
            <p:nvPr/>
          </p:nvSpPr>
          <p:spPr>
            <a:xfrm>
              <a:off x="6228360" y="3645000"/>
              <a:ext cx="1440" cy="502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579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37 CuadroTexto"/>
            <p:cNvSpPr/>
            <p:nvPr/>
          </p:nvSpPr>
          <p:spPr>
            <a:xfrm>
              <a:off x="4860000" y="414864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ue pueden 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57 Conector recto"/>
            <p:cNvSpPr/>
            <p:nvPr/>
          </p:nvSpPr>
          <p:spPr>
            <a:xfrm flipV="1">
              <a:off x="4356000" y="4796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59 Conector recto"/>
            <p:cNvSpPr/>
            <p:nvPr/>
          </p:nvSpPr>
          <p:spPr>
            <a:xfrm flipV="1">
              <a:off x="7740720" y="4796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64 Conector recto"/>
            <p:cNvSpPr/>
            <p:nvPr/>
          </p:nvSpPr>
          <p:spPr>
            <a:xfrm>
              <a:off x="4356000" y="4796640"/>
              <a:ext cx="3384720" cy="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65 Conector recto"/>
            <p:cNvSpPr/>
            <p:nvPr/>
          </p:nvSpPr>
          <p:spPr>
            <a:xfrm flipV="1">
              <a:off x="6228360" y="4508280"/>
              <a:ext cx="0" cy="287640"/>
            </a:xfrm>
            <a:prstGeom prst="line">
              <a:avLst/>
            </a:prstGeom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AutoShape 15"/>
          <p:cNvSpPr/>
          <p:nvPr/>
        </p:nvSpPr>
        <p:spPr>
          <a:xfrm>
            <a:off x="5219640" y="3068640"/>
            <a:ext cx="1908360" cy="93672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LANT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456000" y="907920"/>
            <a:ext cx="2087640" cy="1081080"/>
          </a:xfrm>
          <a:prstGeom prst="roundRect">
            <a:avLst>
              <a:gd name="adj" fmla="val 16667"/>
            </a:avLst>
          </a:prstGeom>
          <a:solidFill>
            <a:srgbClr val="aecf00"/>
          </a:solidFill>
          <a:ln w="3816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PLA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891160" cy="405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468360" y="2476440"/>
            <a:ext cx="2951280" cy="3492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1268280"/>
            <a:ext cx="777564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ecen de flores y tampoco producen frutos ni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producción es alternante y su propagación, por espo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representantes comunes son los musgos y los helech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lantas sin semil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340000" y="5084640"/>
            <a:ext cx="1440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s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859280" y="5157720"/>
            <a:ext cx="1440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lech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1 Imagen" descr="ccnn1_04_pino.jpg"/>
          <p:cNvPicPr/>
          <p:nvPr/>
        </p:nvPicPr>
        <p:blipFill>
          <a:blip r:embed="rId1"/>
          <a:stretch/>
        </p:blipFill>
        <p:spPr>
          <a:xfrm>
            <a:off x="2700360" y="3141720"/>
            <a:ext cx="5938920" cy="3319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34920" y="1125360"/>
            <a:ext cx="82090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flores son poco vistosas y, casi siempre, se agrupan en unas estructuras llamadas conos, a menudo con los sexos sepa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oducen frutos, sino que los conos femeninos maduran, se transforman en piñas y albergan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gimnospermas los pinos, los abetos, los enebr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Gimnospe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50920" y="6021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24000" y="5516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3 CuadroTexto"/>
          <p:cNvSpPr/>
          <p:nvPr/>
        </p:nvSpPr>
        <p:spPr>
          <a:xfrm>
            <a:off x="539640" y="3789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femeni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14 CuadroTexto"/>
          <p:cNvSpPr/>
          <p:nvPr/>
        </p:nvSpPr>
        <p:spPr>
          <a:xfrm>
            <a:off x="971640" y="5300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masculi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16 Conector recto"/>
          <p:cNvSpPr/>
          <p:nvPr/>
        </p:nvSpPr>
        <p:spPr>
          <a:xfrm flipH="1" flipV="1">
            <a:off x="2268360" y="4005360"/>
            <a:ext cx="17272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18 Conector recto"/>
          <p:cNvSpPr/>
          <p:nvPr/>
        </p:nvSpPr>
        <p:spPr>
          <a:xfrm flipH="1" flipV="1">
            <a:off x="2626920" y="5589720"/>
            <a:ext cx="1297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2 CuadroTexto"/>
          <p:cNvSpPr/>
          <p:nvPr/>
        </p:nvSpPr>
        <p:spPr>
          <a:xfrm>
            <a:off x="1042920" y="472428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4 Conector recto"/>
          <p:cNvSpPr/>
          <p:nvPr/>
        </p:nvSpPr>
        <p:spPr>
          <a:xfrm flipH="1" flipV="1">
            <a:off x="2050560" y="494136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"/>
          <p:cNvSpPr/>
          <p:nvPr/>
        </p:nvSpPr>
        <p:spPr>
          <a:xfrm>
            <a:off x="324000" y="5445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11 Imagen" descr="ccnn1_04_almendro.jpg"/>
          <p:cNvPicPr/>
          <p:nvPr/>
        </p:nvPicPr>
        <p:blipFill>
          <a:blip r:embed="rId1"/>
          <a:stretch/>
        </p:blipFill>
        <p:spPr>
          <a:xfrm>
            <a:off x="2050920" y="2492280"/>
            <a:ext cx="6678720" cy="37324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clasificación de las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9640" y="1268280"/>
            <a:ext cx="831708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flores suelen ser vistosas y producen frutos para albergar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muy diversas, desde pequeñas herbáceas hasta grandes árbo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71640" y="76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giospe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50920" y="5950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12 CuadroTexto"/>
          <p:cNvSpPr/>
          <p:nvPr/>
        </p:nvSpPr>
        <p:spPr>
          <a:xfrm>
            <a:off x="539640" y="35002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13 CuadroTexto"/>
          <p:cNvSpPr/>
          <p:nvPr/>
        </p:nvSpPr>
        <p:spPr>
          <a:xfrm>
            <a:off x="539640" y="4581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 con androce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ginece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5 Conector recto"/>
          <p:cNvSpPr/>
          <p:nvPr/>
        </p:nvSpPr>
        <p:spPr>
          <a:xfrm flipH="1" flipV="1">
            <a:off x="2050560" y="4941360"/>
            <a:ext cx="1225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7 Conector recto"/>
          <p:cNvSpPr/>
          <p:nvPr/>
        </p:nvSpPr>
        <p:spPr>
          <a:xfrm flipH="1">
            <a:off x="1476360" y="3429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7:00Z</dcterms:modified>
  <cp:revision>56</cp:revision>
  <dc:subject/>
  <dc:title>Diapositiva 1</dc:title>
</cp:coreProperties>
</file>